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7"/>
          </p:nvPr>
        </p:nvSpPr>
        <p:spPr>
          <a:xfrm>
            <a:off x="108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FEA01-6BC6-4490-8A0F-BDBCE2AF44D5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144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rtl="1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CD491-A9E1-4291-8B9D-21EF61D5498D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144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rtl="1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D7628-0454-40D7-9E55-925E97F6028A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144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rtl="1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78BBE-3480-4C76-96CD-27AD1398B210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144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rtl="1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FE12D-1CC1-4595-887C-116EE1C5AAC5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144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rtl="1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D5C76-640E-499D-A93D-53736848C447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144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rtl="1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EC983-6B09-47EB-A9E0-9100416FB9C1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144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rtl="1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83AF6-1487-4AAD-8E79-7593BC328B78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144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rtl="1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7C00D-3EF7-40F9-BDD4-755121536DBE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144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rtl="1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D0AA3-BD10-48BA-9671-C1AC0DD0C3DB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144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rtl="1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33FBA-03C2-475D-816F-D33E7FC852D9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1CD-ED22-42DF-9806-345821F5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CF62-7DA6-42F8-97E6-7F0E4486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49E-3936-4023-AE2D-1F38F6AA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259-4AAE-4A32-8129-204A0108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20A9-19D5-4097-AA11-28DD9106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8927-C489-46FB-95D8-E5A9E49D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4A4D-FE1A-42CD-A3D6-A0F01DC5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609C-C4E9-46BA-82BE-F2D56DA2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C29D-5638-4848-8607-1F405F9E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A50D-799A-44B3-8CC1-0ACE08A0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FBD2-25AA-4F01-B335-6FF1FD3D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4E1-6974-4006-90D3-4F88F8A7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C627-4898-40C1-8FB2-F5379E48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A93E-0BFD-4F4C-87BB-8699269D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E715-AB02-40E6-AE25-5799597D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CFA1-20A7-400A-BAD4-E344DD0F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00CA-4842-4722-82B6-5BBC58DB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808CA-8A1D-4FE0-946A-340F9428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0BA22-C3B7-4E9C-BD20-2E370087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F9005-1C0E-4DA4-B8C1-3C34F383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DB992-E314-455E-B1F5-B55A50A5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285FB-ED38-4144-9C8D-6BDC22BB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EE4-7565-4A5A-BE94-79E52C37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2FD50-C17B-4DDA-A429-FF2A7618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85817-6381-4FF0-9E0C-B1EB6A40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82A2A-E987-469E-AC5A-86B085EB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69993-D23F-4086-B1B4-9508043A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2A314-2BB2-466A-970C-45911E32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A1347-057A-4525-8455-B873CB73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58929-B8E1-4E49-B91D-BEBC3E6C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6FF17-71D9-45EC-A619-10E8491B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6178E-1DDE-4558-94D4-001B203C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2CA88-209D-4729-BD49-DC1B3C6E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1CCB-137C-4408-B38E-C9CC760E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6FBEA-1B2B-4557-9C8D-6E1091A0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656B9-6B9F-4CE8-9BB4-A0220B51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BA41E-00FF-4893-B5DE-59A74EEF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AD113-B254-467E-AF9E-9AF81F5A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BE3F9-93B7-4A73-B6CF-964AEE72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9DC42-D018-4D92-A312-967BF9AD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FB9D6-D3EF-436E-951B-24652058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C21CE-3118-42C6-83B3-6D68D4A4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855B7-A31F-4A62-B4BE-5553095D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74B85-AFAE-4814-A2F7-31CAC391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4F38-508E-4432-8EE8-5621AC1A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07715-2FA0-4944-8083-92AD0F09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5AC52-B40E-41E5-BC92-9FBA82C6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04764-31C8-4D0C-8E22-57F29A24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15C4F-1BC4-4D0A-95AD-7DBFFA88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845F4-DFDE-4B13-8024-51DFA04F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37508-3C25-43A5-8CBE-72287BC7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41A28-7686-4B5C-9CE7-E8186630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1E152-A414-4BF5-83DC-0DD8F30A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EB204-2B3C-417F-962F-4A8D21AA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62361-1899-4A96-874F-9B43ED3B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6C52-3F1C-4013-8B49-DC11B464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B8C3B-31AE-43AD-B4D2-37C9F3BD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067-C3BD-408F-ABD5-DB040829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540-E092-4CEA-A849-AA752C81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AC0-2DF1-4716-BBCD-9D8A88F8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89bbe">
                  <a:alpha val="46274"/>
                </a:srgbClr>
              </a:gs>
              <a:gs pos="100000">
                <a:srgbClr val="9bfa23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cbd29">
                  <a:alpha val="46274"/>
                </a:srgbClr>
              </a:gs>
              <a:gs pos="100000">
                <a:srgbClr val="37c0f0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212745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1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2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3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4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5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6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במרץ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520" y="6356160"/>
            <a:ext cx="33512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he-I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דר' אסנת אלד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he-I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612FBF-1B85-48C7-865C-2C7F993CCCFC}" type="slidenum"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54800" cy="646200"/>
              <a:chOff x="-19080" y="203040"/>
              <a:chExt cx="9154800" cy="64620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4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 algn="r" rtl="1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 algn="r" rtl="1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89bbe">
                  <a:alpha val="46274"/>
                </a:srgbClr>
              </a:gs>
              <a:gs pos="100000">
                <a:srgbClr val="9bfa23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cbd29">
                  <a:alpha val="46274"/>
                </a:srgbClr>
              </a:gs>
              <a:gs pos="100000">
                <a:srgbClr val="37c0f0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Group 4"/>
            <p:cNvGrpSpPr/>
            <p:nvPr/>
          </p:nvGrpSpPr>
          <p:grpSpPr>
            <a:xfrm>
              <a:off x="-19080" y="203040"/>
              <a:ext cx="9154800" cy="646200"/>
              <a:chOff x="-19080" y="203040"/>
              <a:chExt cx="9154800" cy="646200"/>
            </a:xfrm>
          </p:grpSpPr>
          <p:pic>
            <p:nvPicPr>
              <p:cNvPr id="5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4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 algn="r" rtl="1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 algn="r" rtl="1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1e5b"/>
                </a:solidFill>
                <a:latin typeface="Times New Roman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01e5b"/>
                </a:solidFill>
                <a:latin typeface="Times New Roman"/>
                <a:ea typeface="Tahoma"/>
              </a:rPr>
              <a:t>13</a:t>
            </a:r>
            <a:r>
              <a:rPr b="0" lang="en-US" sz="1200" spc="-1" strike="noStrike">
                <a:solidFill>
                  <a:srgbClr val="001e5b"/>
                </a:solidFill>
                <a:latin typeface="Times New Roman"/>
                <a:ea typeface="Tahoma"/>
              </a:rPr>
              <a:t> </a:t>
            </a:r>
            <a:r>
              <a:rPr b="0" lang="he-IL" sz="1200" spc="-1" strike="noStrike">
                <a:solidFill>
                  <a:srgbClr val="001e5b"/>
                </a:solidFill>
                <a:latin typeface="Times New Roman"/>
                <a:cs typeface="Tahoma"/>
              </a:rPr>
              <a:t>במרץ </a:t>
            </a:r>
            <a:r>
              <a:rPr b="0" lang="he-IL" sz="1200" spc="-1" strike="noStrike">
                <a:solidFill>
                  <a:srgbClr val="001e5b"/>
                </a:solidFill>
                <a:latin typeface="Times New Roman"/>
                <a:ea typeface="Tahoma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520" y="6356160"/>
            <a:ext cx="33512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e-IL" sz="1200" spc="-1" strike="noStrike">
                <a:solidFill>
                  <a:srgbClr val="001e5b"/>
                </a:solidFill>
                <a:latin typeface="Times New Roman"/>
                <a:cs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1200" spc="-1" strike="noStrike">
                <a:solidFill>
                  <a:srgbClr val="001e5b"/>
                </a:solidFill>
                <a:latin typeface="Times New Roman"/>
                <a:cs typeface="Tahoma"/>
              </a:rPr>
              <a:t>דר' אסנת אלד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he-IL" sz="1200" spc="-1" strike="noStrike">
                <a:solidFill>
                  <a:srgbClr val="001e5b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8CC55E3-AD03-4EFC-9971-63B01CA1A068}" type="slidenum">
              <a:rPr b="0" lang="he-IL" sz="1200" spc="-1" strike="noStrike">
                <a:solidFill>
                  <a:srgbClr val="001e5b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89bbe">
                  <a:alpha val="46274"/>
                </a:srgbClr>
              </a:gs>
              <a:gs pos="100000">
                <a:srgbClr val="9bfa23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cbd29">
                  <a:alpha val="46274"/>
                </a:srgbClr>
              </a:gs>
              <a:gs pos="100000">
                <a:srgbClr val="37c0f0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03" name="Group 4"/>
            <p:cNvGrpSpPr/>
            <p:nvPr/>
          </p:nvGrpSpPr>
          <p:grpSpPr>
            <a:xfrm>
              <a:off x="-19080" y="203040"/>
              <a:ext cx="9154800" cy="646200"/>
              <a:chOff x="-19080" y="203040"/>
              <a:chExt cx="9154800" cy="646200"/>
            </a:xfrm>
          </p:grpSpPr>
          <p:pic>
            <p:nvPicPr>
              <p:cNvPr id="10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4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 algn="r" rtl="1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06" name="Group 7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 algn="r" rtl="1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1e5b"/>
                </a:solidFill>
                <a:latin typeface="Times New Roman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01e5b"/>
                </a:solidFill>
                <a:latin typeface="Times New Roman"/>
                <a:ea typeface="Tahoma"/>
              </a:rPr>
              <a:t>13</a:t>
            </a:r>
            <a:r>
              <a:rPr b="0" lang="en-US" sz="1200" spc="-1" strike="noStrike">
                <a:solidFill>
                  <a:srgbClr val="001e5b"/>
                </a:solidFill>
                <a:latin typeface="Times New Roman"/>
                <a:ea typeface="Tahoma"/>
              </a:rPr>
              <a:t> </a:t>
            </a:r>
            <a:r>
              <a:rPr b="0" lang="he-IL" sz="1200" spc="-1" strike="noStrike">
                <a:solidFill>
                  <a:srgbClr val="001e5b"/>
                </a:solidFill>
                <a:latin typeface="Times New Roman"/>
                <a:cs typeface="Tahoma"/>
              </a:rPr>
              <a:t>במרץ </a:t>
            </a:r>
            <a:r>
              <a:rPr b="0" lang="he-IL" sz="1200" spc="-1" strike="noStrike">
                <a:solidFill>
                  <a:srgbClr val="001e5b"/>
                </a:solidFill>
                <a:latin typeface="Times New Roman"/>
                <a:ea typeface="Tahoma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520" y="6356160"/>
            <a:ext cx="33512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e-IL" sz="1200" spc="-1" strike="noStrike">
                <a:solidFill>
                  <a:srgbClr val="001e5b"/>
                </a:solidFill>
                <a:latin typeface="Times New Roman"/>
                <a:cs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1200" spc="-1" strike="noStrike">
                <a:solidFill>
                  <a:srgbClr val="001e5b"/>
                </a:solidFill>
                <a:latin typeface="Times New Roman"/>
                <a:cs typeface="Tahoma"/>
              </a:rPr>
              <a:t>דר' אסנת אלד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he-IL" sz="1200" spc="-1" strike="noStrike">
                <a:solidFill>
                  <a:srgbClr val="001e5b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EE0B79C-56FD-43D0-9379-80A94E419ED4}" type="slidenum">
              <a:rPr b="0" lang="he-IL" sz="1200" spc="-1" strike="noStrike">
                <a:solidFill>
                  <a:srgbClr val="001e5b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1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89bbe">
                  <a:alpha val="46274"/>
                </a:srgbClr>
              </a:gs>
              <a:gs pos="100000">
                <a:srgbClr val="9bfa23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cbd29">
                  <a:alpha val="46274"/>
                </a:srgbClr>
              </a:gs>
              <a:gs pos="100000">
                <a:srgbClr val="37c0f0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212745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1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2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3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4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5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6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1f2541"/>
                </a:solidFill>
                <a:latin typeface="Times New Roman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1f2541"/>
                </a:solidFill>
                <a:latin typeface="Times New Roman"/>
                <a:ea typeface="Tahoma"/>
              </a:rPr>
              <a:t>13</a:t>
            </a:r>
            <a:r>
              <a:rPr b="0" lang="en-US" sz="1200" spc="-1" strike="noStrike">
                <a:solidFill>
                  <a:srgbClr val="1f2541"/>
                </a:solidFill>
                <a:latin typeface="Times New Roman"/>
                <a:ea typeface="Tahoma"/>
              </a:rPr>
              <a:t> </a:t>
            </a:r>
            <a:r>
              <a:rPr b="0" lang="he-IL" sz="1200" spc="-1" strike="noStrike">
                <a:solidFill>
                  <a:srgbClr val="1f2541"/>
                </a:solidFill>
                <a:latin typeface="Times New Roman"/>
                <a:cs typeface="Tahoma"/>
              </a:rPr>
              <a:t>במרץ </a:t>
            </a:r>
            <a:r>
              <a:rPr b="0" lang="he-IL" sz="1200" spc="-1" strike="noStrike">
                <a:solidFill>
                  <a:srgbClr val="1f2541"/>
                </a:solidFill>
                <a:latin typeface="Times New Roman"/>
                <a:ea typeface="Tahoma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520" y="6356160"/>
            <a:ext cx="33512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e-IL" sz="1200" spc="-1" strike="noStrike">
                <a:solidFill>
                  <a:srgbClr val="1f2541"/>
                </a:solidFill>
                <a:latin typeface="Times New Roman"/>
                <a:cs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1200" spc="-1" strike="noStrike">
                <a:solidFill>
                  <a:srgbClr val="1f2541"/>
                </a:solidFill>
                <a:latin typeface="Times New Roman"/>
                <a:cs typeface="Tahoma"/>
              </a:rPr>
              <a:t>דר' אסנת אלד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he-IL" sz="1200" spc="-1" strike="noStrike">
                <a:solidFill>
                  <a:srgbClr val="1f2541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5672EC-AD9A-4863-9F82-DF3454A97F0D}" type="slidenum">
              <a:rPr b="0" lang="he-IL" sz="1200" spc="-1" strike="noStrike">
                <a:solidFill>
                  <a:srgbClr val="1f2541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89bbe">
                  <a:alpha val="46274"/>
                </a:srgbClr>
              </a:gs>
              <a:gs pos="100000">
                <a:srgbClr val="9bfa23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cbd29">
                  <a:alpha val="46274"/>
                </a:srgbClr>
              </a:gs>
              <a:gs pos="100000">
                <a:srgbClr val="37c0f0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7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98" name="Group 4"/>
            <p:cNvGrpSpPr/>
            <p:nvPr/>
          </p:nvGrpSpPr>
          <p:grpSpPr>
            <a:xfrm>
              <a:off x="-19080" y="203040"/>
              <a:ext cx="9154800" cy="646200"/>
              <a:chOff x="-19080" y="203040"/>
              <a:chExt cx="9154800" cy="646200"/>
            </a:xfrm>
          </p:grpSpPr>
          <p:pic>
            <p:nvPicPr>
              <p:cNvPr id="199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4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 algn="r" rtl="1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01" name="Group 7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202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 algn="r" rtl="1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212745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1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2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3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4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5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6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1f2541"/>
                </a:solidFill>
                <a:latin typeface="Times New Roman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1f2541"/>
                </a:solidFill>
                <a:latin typeface="Times New Roman"/>
                <a:ea typeface="Tahoma"/>
              </a:rPr>
              <a:t>13</a:t>
            </a:r>
            <a:r>
              <a:rPr b="0" lang="en-US" sz="1200" spc="-1" strike="noStrike">
                <a:solidFill>
                  <a:srgbClr val="1f2541"/>
                </a:solidFill>
                <a:latin typeface="Times New Roman"/>
                <a:ea typeface="Tahoma"/>
              </a:rPr>
              <a:t> </a:t>
            </a:r>
            <a:r>
              <a:rPr b="0" lang="he-IL" sz="1200" spc="-1" strike="noStrike">
                <a:solidFill>
                  <a:srgbClr val="1f2541"/>
                </a:solidFill>
                <a:latin typeface="Times New Roman"/>
                <a:cs typeface="Tahoma"/>
              </a:rPr>
              <a:t>במרץ </a:t>
            </a:r>
            <a:r>
              <a:rPr b="0" lang="he-IL" sz="1200" spc="-1" strike="noStrike">
                <a:solidFill>
                  <a:srgbClr val="1f2541"/>
                </a:solidFill>
                <a:latin typeface="Times New Roman"/>
                <a:ea typeface="Tahoma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520" y="6356160"/>
            <a:ext cx="33512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e-IL" sz="1200" spc="-1" strike="noStrike">
                <a:solidFill>
                  <a:srgbClr val="1f2541"/>
                </a:solidFill>
                <a:latin typeface="Times New Roman"/>
                <a:cs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1200" spc="-1" strike="noStrike">
                <a:solidFill>
                  <a:srgbClr val="1f2541"/>
                </a:solidFill>
                <a:latin typeface="Times New Roman"/>
                <a:cs typeface="Tahoma"/>
              </a:rPr>
              <a:t>דר' אסנת אלד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he-IL" sz="1200" spc="-1" strike="noStrike">
                <a:solidFill>
                  <a:srgbClr val="1f2541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970C871-3BF0-46CB-8C3C-84F9466FF5FD}" type="slidenum">
              <a:rPr b="0" lang="he-IL" sz="1200" spc="-1" strike="noStrike">
                <a:solidFill>
                  <a:srgbClr val="1f2541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"/>
          <p:cNvPicPr/>
          <p:nvPr/>
        </p:nvPicPr>
        <p:blipFill>
          <a:blip r:embed="rId1"/>
          <a:stretch/>
        </p:blipFill>
        <p:spPr>
          <a:xfrm>
            <a:off x="609480" y="0"/>
            <a:ext cx="8296560" cy="1962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1655640" y="1962000"/>
            <a:ext cx="5938920" cy="48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457200" y="65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e-IL" sz="3600" spc="-1" strike="noStrike">
                <a:solidFill>
                  <a:srgbClr val="212745"/>
                </a:solidFill>
                <a:latin typeface="Arial"/>
              </a:rPr>
              <a:t>מייצוג בגרף ובטבלה למידע מילולי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2349360" y="2343240"/>
            <a:ext cx="3033720" cy="819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66000"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קריאה, זיהוי מרכיבי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ואפיון קשרי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2620800" y="1546200"/>
            <a:ext cx="2730600" cy="5554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4000"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נתוני הגרף/הטבלה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1990800" y="5518080"/>
            <a:ext cx="3690720" cy="5619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5000"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בניית הסבר: הסקה או חיזוי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2963880" y="3578400"/>
            <a:ext cx="2070000" cy="473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69000"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ניתוח מתמטי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15" name="AutoShape 11"/>
          <p:cNvCxnSpPr/>
          <p:nvPr/>
        </p:nvCxnSpPr>
        <p:spPr>
          <a:xfrm>
            <a:off x="3026880" y="3967200"/>
            <a:ext cx="1080" cy="1551600"/>
          </a:xfrm>
          <a:prstGeom prst="straightConnector1">
            <a:avLst/>
          </a:prstGeom>
          <a:ln cap="sq" w="2844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16" name="AutoShape 12"/>
          <p:cNvCxnSpPr/>
          <p:nvPr/>
        </p:nvCxnSpPr>
        <p:spPr>
          <a:xfrm>
            <a:off x="3987360" y="3188880"/>
            <a:ext cx="1080" cy="266040"/>
          </a:xfrm>
          <a:prstGeom prst="straightConnector1">
            <a:avLst/>
          </a:prstGeom>
          <a:ln cap="sq" w="2844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317" name="Rectangle 13"/>
          <p:cNvSpPr/>
          <p:nvPr/>
        </p:nvSpPr>
        <p:spPr>
          <a:xfrm>
            <a:off x="1728720" y="2289240"/>
            <a:ext cx="5686560" cy="182556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1763640" y="4417920"/>
            <a:ext cx="5686560" cy="181620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5154480" y="2571840"/>
            <a:ext cx="2222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תהליכי עיבוד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חזותי ומתמטי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5632560" y="4487760"/>
            <a:ext cx="17334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תהליכי המרה ובנייה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17"/>
          <p:cNvCxnSpPr/>
          <p:nvPr/>
        </p:nvCxnSpPr>
        <p:spPr>
          <a:xfrm>
            <a:off x="2620440" y="3233520"/>
            <a:ext cx="1080" cy="2283480"/>
          </a:xfrm>
          <a:prstGeom prst="straightConnector1">
            <a:avLst/>
          </a:prstGeom>
          <a:ln cap="sq" w="2844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22" name="AutoShape 18"/>
          <p:cNvCxnSpPr/>
          <p:nvPr/>
        </p:nvCxnSpPr>
        <p:spPr>
          <a:xfrm>
            <a:off x="5352840" y="3191040"/>
            <a:ext cx="1080" cy="2327760"/>
          </a:xfrm>
          <a:prstGeom prst="straightConnector1">
            <a:avLst/>
          </a:prstGeom>
          <a:ln cap="sq" w="2844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323" name="Rectangle 19"/>
          <p:cNvSpPr/>
          <p:nvPr/>
        </p:nvSpPr>
        <p:spPr>
          <a:xfrm>
            <a:off x="3070080" y="4365720"/>
            <a:ext cx="2121120" cy="946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בניית ייצוג חזותי או השלמתו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4" name="AutoShape 20"/>
          <p:cNvCxnSpPr/>
          <p:nvPr/>
        </p:nvCxnSpPr>
        <p:spPr>
          <a:xfrm>
            <a:off x="4138200" y="3930480"/>
            <a:ext cx="1080" cy="488160"/>
          </a:xfrm>
          <a:prstGeom prst="straightConnector1">
            <a:avLst/>
          </a:prstGeom>
          <a:ln cap="sq" w="2844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25" name="AutoShape 21"/>
          <p:cNvCxnSpPr/>
          <p:nvPr/>
        </p:nvCxnSpPr>
        <p:spPr>
          <a:xfrm>
            <a:off x="4266720" y="5246640"/>
            <a:ext cx="1080" cy="270720"/>
          </a:xfrm>
          <a:prstGeom prst="straightConnector1">
            <a:avLst/>
          </a:prstGeom>
          <a:ln cap="sq" w="2844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326" name="AutoShape 22"/>
          <p:cNvSpPr/>
          <p:nvPr/>
        </p:nvSpPr>
        <p:spPr>
          <a:xfrm>
            <a:off x="539640" y="5327640"/>
            <a:ext cx="719280" cy="647640"/>
          </a:xfrm>
          <a:custGeom>
            <a:avLst/>
            <a:gdLst>
              <a:gd name="textAreaLeft" fmla="*/ 118800 w 719280"/>
              <a:gd name="textAreaRight" fmla="*/ 519120 w 71928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153" hR="21600" stAng="10800000" swAng="-5400000"/>
                <a:lnTo>
                  <a:pt x="12016" y="21600"/>
                </a:lnTo>
                <a:arcTo wR="7153" hR="21600" stAng="5400000" swAng="-3123300"/>
                <a:lnTo>
                  <a:pt x="21373" y="5400"/>
                </a:lnTo>
                <a:lnTo>
                  <a:pt x="16737" y="0"/>
                </a:lnTo>
                <a:lnTo>
                  <a:pt x="11646" y="5400"/>
                </a:lnTo>
                <a:lnTo>
                  <a:pt x="14078" y="5400"/>
                </a:lnTo>
                <a:arcTo wR="7153" hR="21600" stAng="2276700" swAng="2713756"/>
                <a:lnTo>
                  <a:pt x="9584" y="20314"/>
                </a:lnTo>
                <a:arcTo wR="7153" hR="21600" stAng="5809544" swAng="4990456"/>
                <a:close/>
              </a:path>
              <a:path fill="darkenLess" w="21600" h="21600">
                <a:moveTo>
                  <a:pt x="0" y="0"/>
                </a:moveTo>
                <a:arcTo wR="7153" hR="21600" stAng="10800000" swAng="-5400000"/>
                <a:lnTo>
                  <a:pt x="12016" y="21600"/>
                </a:lnTo>
                <a:arcTo wR="7153" hR="21600" stAng="5400000" swAng="409544"/>
                <a:lnTo>
                  <a:pt x="9584" y="20314"/>
                </a:lnTo>
                <a:arcTo wR="7153" hR="21600" stAng="5809544" swAng="4990456"/>
                <a:close/>
              </a:path>
            </a:pathLst>
          </a:custGeom>
          <a:solidFill>
            <a:srgbClr val="002060"/>
          </a:solidFill>
          <a:ln cap="sq" w="2556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5000" spc="-1" strike="noStrike">
                <a:solidFill>
                  <a:srgbClr val="212745"/>
                </a:solidFill>
                <a:latin typeface="Arial"/>
              </a:rPr>
              <a:t>אוריינות</a:t>
            </a:r>
            <a:r>
              <a:rPr b="0" lang="en-US" sz="5000" spc="-1" strike="noStrike">
                <a:solidFill>
                  <a:srgbClr val="212745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411120" y="196704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he-IL" sz="2600" spc="-1" strike="noStrike">
                <a:solidFill>
                  <a:srgbClr val="002060"/>
                </a:solidFill>
                <a:latin typeface="Arial"/>
              </a:rPr>
              <a:t>מערכת של התנהגויות חברתיות ותרבותיות הקשורות לשפה על פניה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e-IL" sz="2600" spc="-1" strike="noStrike">
                <a:solidFill>
                  <a:srgbClr val="002060"/>
                </a:solidFill>
                <a:latin typeface="Arial"/>
              </a:rPr>
              <a:t>ואופנויותיה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e-IL" sz="2600" spc="-1" strike="noStrike">
                <a:solidFill>
                  <a:srgbClr val="002060"/>
                </a:solidFill>
                <a:latin typeface="Arial"/>
              </a:rPr>
              <a:t>הרבים, תוך שימת דגש על השפה (הכתובה והדבורה) ועל ההקשרים השונים שבהן היא משמשת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he-IL" sz="2600" spc="-1" strike="noStrike">
                <a:solidFill>
                  <a:srgbClr val="002060"/>
                </a:solidFill>
                <a:latin typeface="Arial"/>
              </a:rPr>
              <a:t>אוריינות איננה מילה נרדפת למיומנויות הקריאה והכתיבה, אלא היא כוללת אותן, כחלק ממערך כללי של ידע, של עמדות ושל אמונות אודות השפה (הכתובה והדבורה) ושימושיה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5000" spc="-1" strike="noStrike">
                <a:solidFill>
                  <a:srgbClr val="212745"/>
                </a:solidFill>
                <a:latin typeface="Arial"/>
              </a:rPr>
              <a:t>אוריינות מדעית</a:t>
            </a:r>
            <a:r>
              <a:rPr b="0" lang="en-US" sz="5000" spc="-1" strike="noStrike">
                <a:solidFill>
                  <a:srgbClr val="212745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411120" y="195264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he-IL" sz="2600" spc="-1" strike="noStrike">
                <a:solidFill>
                  <a:srgbClr val="002060"/>
                </a:solidFill>
                <a:latin typeface="Arial"/>
              </a:rPr>
              <a:t>אוריינות מדעית הינה מכלול מיומנויות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e-IL" sz="2600" spc="-1" strike="noStrike">
                <a:solidFill>
                  <a:srgbClr val="002060"/>
                </a:solidFill>
                <a:latin typeface="Arial"/>
              </a:rPr>
              <a:t>המאפשרות ליחיד להתמודד עם מצבים, בעיות וסוגיות מחיי היום-יום הדורשים הבנה במדע וטכנולוגיה. מיותר לציין עד כמה מסוגלות זו חיונית לכל אזרח הן ברמה האישית והן ברמות קהילתיות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0" y="3886200"/>
            <a:ext cx="4975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89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4500" spc="-1" strike="noStrike">
                <a:solidFill>
                  <a:srgbClr val="212745"/>
                </a:solidFill>
                <a:latin typeface="Arial"/>
              </a:rPr>
              <a:t>למה לשלב אוריינות בשיעורי הפיזיקה</a:t>
            </a:r>
            <a:r>
              <a:rPr b="0" lang="en-US" sz="4500" spc="-1" strike="noStrike">
                <a:solidFill>
                  <a:srgbClr val="212745"/>
                </a:solidFill>
                <a:latin typeface="Arial"/>
              </a:rPr>
              <a:t>?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 algn="r" rtl="1">
              <a:lnSpc>
                <a:spcPct val="150000"/>
              </a:lnSpc>
              <a:spcBef>
                <a:spcPts val="649"/>
              </a:spcBef>
              <a:buClr>
                <a:srgbClr val="a7ea52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he-IL" sz="2600" spc="-1" strike="noStrike">
                <a:solidFill>
                  <a:srgbClr val="002060"/>
                </a:solidFill>
                <a:latin typeface="Arial"/>
              </a:rPr>
              <a:t>זה חשוב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 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1440" indent="-271440" algn="r" rtl="1">
              <a:lnSpc>
                <a:spcPct val="150000"/>
              </a:lnSpc>
              <a:spcBef>
                <a:spcPts val="649"/>
              </a:spcBef>
              <a:buClr>
                <a:srgbClr val="a7ea52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he-IL" sz="2600" spc="-1" strike="noStrike">
                <a:solidFill>
                  <a:srgbClr val="002060"/>
                </a:solidFill>
                <a:latin typeface="Arial"/>
              </a:rPr>
              <a:t>זה חלק מהותי בהוראת הפיזיקה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1440" indent="-271440" algn="r" rtl="1">
              <a:lnSpc>
                <a:spcPct val="150000"/>
              </a:lnSpc>
              <a:spcBef>
                <a:spcPts val="649"/>
              </a:spcBef>
              <a:buClr>
                <a:srgbClr val="a7ea52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he-IL" sz="2600" spc="-1" strike="noStrike">
                <a:solidFill>
                  <a:srgbClr val="002060"/>
                </a:solidFill>
                <a:latin typeface="Arial"/>
              </a:rPr>
              <a:t>אנחנו תמיד מחנכים לזה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...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5000" spc="-1" strike="noStrike">
                <a:solidFill>
                  <a:srgbClr val="212745"/>
                </a:solidFill>
                <a:latin typeface="Arial"/>
              </a:rPr>
              <a:t>מיומנויות אוריינות בפיזיקה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2640" indent="-512640" algn="r" rtl="1">
              <a:lnSpc>
                <a:spcPct val="150000"/>
              </a:lnSpc>
              <a:spcBef>
                <a:spcPts val="649"/>
              </a:spcBef>
              <a:buClr>
                <a:srgbClr val="a7ea52"/>
              </a:buClr>
              <a:buSzPct val="95000"/>
              <a:buFont typeface="Arial"/>
              <a:buAutoNum type="alphaUcPeriod"/>
              <a:tabLst>
                <a:tab algn="l" pos="1152360"/>
                <a:tab algn="l" pos="2066760"/>
                <a:tab algn="l" pos="2981160"/>
                <a:tab algn="l" pos="3895560"/>
                <a:tab algn="l" pos="4809960"/>
                <a:tab algn="l" pos="5724360"/>
                <a:tab algn="l" pos="6638760"/>
                <a:tab algn="l" pos="7553160"/>
                <a:tab algn="l" pos="8467560"/>
                <a:tab algn="l" pos="9381960"/>
                <a:tab algn="l" pos="10296360"/>
                <a:tab algn="l" pos="10333080"/>
                <a:tab algn="l" pos="10782360"/>
              </a:tabLst>
            </a:pP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המרה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מייצוג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מידע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מילולי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לתרשים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 algn="r" rtl="1">
              <a:lnSpc>
                <a:spcPct val="150000"/>
              </a:lnSpc>
              <a:spcBef>
                <a:spcPts val="649"/>
              </a:spcBef>
              <a:buClr>
                <a:srgbClr val="a7ea52"/>
              </a:buClr>
              <a:buSzPct val="95000"/>
              <a:buFont typeface="Arial"/>
              <a:buAutoNum type="alphaUcPeriod"/>
              <a:tabLst>
                <a:tab algn="l" pos="1152360"/>
                <a:tab algn="l" pos="2066760"/>
                <a:tab algn="l" pos="2981160"/>
                <a:tab algn="l" pos="3895560"/>
                <a:tab algn="l" pos="4809960"/>
                <a:tab algn="l" pos="5724360"/>
                <a:tab algn="l" pos="6638760"/>
                <a:tab algn="l" pos="7553160"/>
                <a:tab algn="l" pos="8467560"/>
                <a:tab algn="l" pos="9381960"/>
                <a:tab algn="l" pos="10296360"/>
                <a:tab algn="l" pos="10333080"/>
                <a:tab algn="l" pos="10782360"/>
              </a:tabLst>
            </a:pP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הסבר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מדעי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 algn="r" rtl="1">
              <a:lnSpc>
                <a:spcPct val="150000"/>
              </a:lnSpc>
              <a:spcBef>
                <a:spcPts val="649"/>
              </a:spcBef>
              <a:buClr>
                <a:srgbClr val="a7ea52"/>
              </a:buClr>
              <a:buSzPct val="95000"/>
              <a:buFont typeface="Arial"/>
              <a:buAutoNum type="alphaUcPeriod"/>
              <a:tabLst>
                <a:tab algn="l" pos="1152360"/>
                <a:tab algn="l" pos="2066760"/>
                <a:tab algn="l" pos="2981160"/>
                <a:tab algn="l" pos="3895560"/>
                <a:tab algn="l" pos="4809960"/>
                <a:tab algn="l" pos="5724360"/>
                <a:tab algn="l" pos="6638760"/>
                <a:tab algn="l" pos="7553160"/>
                <a:tab algn="l" pos="8467560"/>
                <a:tab algn="l" pos="9381960"/>
                <a:tab algn="l" pos="10296360"/>
                <a:tab algn="l" pos="10333080"/>
                <a:tab algn="l" pos="10782360"/>
              </a:tabLst>
            </a:pP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ניסוח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שאלת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חקר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 algn="r" rtl="1">
              <a:lnSpc>
                <a:spcPct val="150000"/>
              </a:lnSpc>
              <a:spcBef>
                <a:spcPts val="649"/>
              </a:spcBef>
              <a:buClr>
                <a:srgbClr val="a7ea52"/>
              </a:buClr>
              <a:buSzPct val="95000"/>
              <a:buFont typeface="Arial"/>
              <a:buAutoNum type="alphaUcPeriod"/>
              <a:tabLst>
                <a:tab algn="l" pos="1152360"/>
                <a:tab algn="l" pos="2066760"/>
                <a:tab algn="l" pos="2981160"/>
                <a:tab algn="l" pos="3895560"/>
                <a:tab algn="l" pos="4809960"/>
                <a:tab algn="l" pos="5724360"/>
                <a:tab algn="l" pos="6638760"/>
                <a:tab algn="l" pos="7553160"/>
                <a:tab algn="l" pos="8467560"/>
                <a:tab algn="l" pos="9381960"/>
                <a:tab algn="l" pos="10296360"/>
                <a:tab algn="l" pos="10333080"/>
                <a:tab algn="l" pos="10782360"/>
              </a:tabLst>
            </a:pP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המרה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מייצוג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מידע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בתרשים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לייצוג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מילולי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 algn="r" rtl="1">
              <a:lnSpc>
                <a:spcPct val="150000"/>
              </a:lnSpc>
              <a:spcBef>
                <a:spcPts val="649"/>
              </a:spcBef>
              <a:buClr>
                <a:srgbClr val="a7ea52"/>
              </a:buClr>
              <a:buSzPct val="95000"/>
              <a:buFont typeface="Arial"/>
              <a:buAutoNum type="alphaUcPeriod"/>
              <a:tabLst>
                <a:tab algn="l" pos="1152360"/>
                <a:tab algn="l" pos="2066760"/>
                <a:tab algn="l" pos="2981160"/>
                <a:tab algn="l" pos="3895560"/>
                <a:tab algn="l" pos="4809960"/>
                <a:tab algn="l" pos="5724360"/>
                <a:tab algn="l" pos="6638760"/>
                <a:tab algn="l" pos="7553160"/>
                <a:tab algn="l" pos="8467560"/>
                <a:tab algn="l" pos="9381960"/>
                <a:tab algn="l" pos="10296360"/>
                <a:tab algn="l" pos="10333080"/>
                <a:tab algn="l" pos="10782360"/>
              </a:tabLst>
            </a:pP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המרה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מייצוג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בגרף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e-IL" sz="2600" spc="-1" strike="noStrike">
                <a:solidFill>
                  <a:srgbClr val="002060"/>
                </a:solidFill>
                <a:latin typeface="Arial"/>
              </a:rPr>
              <a:t>ובטבלה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e-IL" sz="2600" spc="-1" strike="noStrike">
                <a:solidFill>
                  <a:srgbClr val="002060"/>
                </a:solidFill>
                <a:latin typeface="Arial"/>
              </a:rPr>
              <a:t>למידע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e-IL" sz="2600" spc="-1" strike="noStrike">
                <a:solidFill>
                  <a:srgbClr val="002060"/>
                </a:solidFill>
                <a:latin typeface="Arial"/>
              </a:rPr>
              <a:t>מילולי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838080"/>
            <a:ext cx="9143640" cy="4092480"/>
            <a:chOff x="0" y="838080"/>
            <a:chExt cx="9143640" cy="4092480"/>
          </a:xfrm>
        </p:grpSpPr>
        <p:sp>
          <p:nvSpPr>
            <p:cNvPr id="265" name="Text Box 3"/>
            <p:cNvSpPr/>
            <p:nvPr/>
          </p:nvSpPr>
          <p:spPr>
            <a:xfrm>
              <a:off x="719280" y="838080"/>
              <a:ext cx="77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he-IL" sz="3600" spc="-1" strike="noStrike">
                  <a:solidFill>
                    <a:srgbClr val="002060"/>
                  </a:solidFill>
                  <a:latin typeface="Calibri"/>
                </a:rPr>
                <a:t>מייצוג מידע מילולי לתרשים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6" name="Rectangle 4"/>
            <p:cNvSpPr/>
            <p:nvPr/>
          </p:nvSpPr>
          <p:spPr>
            <a:xfrm>
              <a:off x="0" y="2643120"/>
              <a:ext cx="9143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r" rtl="1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7" name="Rectangle 5"/>
            <p:cNvSpPr/>
            <p:nvPr/>
          </p:nvSpPr>
          <p:spPr>
            <a:xfrm>
              <a:off x="1911240" y="1836720"/>
              <a:ext cx="4823640" cy="4539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he-IL" sz="2400" spc="-1" strike="noStrike">
                  <a:solidFill>
                    <a:srgbClr val="002060"/>
                  </a:solidFill>
                  <a:latin typeface="Arial"/>
                </a:rPr>
                <a:t>התמליל (טקסט) שיש להמיר לתרשים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Text Box 7"/>
            <p:cNvSpPr/>
            <p:nvPr/>
          </p:nvSpPr>
          <p:spPr>
            <a:xfrm>
              <a:off x="4799880" y="2840040"/>
              <a:ext cx="3167280" cy="4651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he-IL" sz="2400" spc="-1" strike="noStrike">
                  <a:solidFill>
                    <a:srgbClr val="002060"/>
                  </a:solidFill>
                  <a:latin typeface="Arial"/>
                </a:rPr>
                <a:t>רמזים בתמליל (טקסט)</a:t>
              </a:r>
              <a:r>
                <a:rPr b="0" lang="en-US" sz="24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cxnSp>
          <p:nvCxnSpPr>
            <p:cNvPr id="269" name="AutoShape 8"/>
            <p:cNvCxnSpPr>
              <a:stCxn id="268" idx="1"/>
              <a:endCxn id="270" idx="3"/>
            </p:cNvCxnSpPr>
            <p:nvPr/>
          </p:nvCxnSpPr>
          <p:spPr>
            <a:xfrm flipH="1">
              <a:off x="3835080" y="3072960"/>
              <a:ext cx="964440" cy="35640"/>
            </a:xfrm>
            <a:prstGeom prst="straightConnector1">
              <a:avLst/>
            </a:prstGeom>
            <a:ln cap="sq" w="28440">
              <a:solidFill>
                <a:srgbClr val="1f497d"/>
              </a:solidFill>
              <a:miter/>
              <a:tailEnd len="med" type="triangle" w="med"/>
            </a:ln>
          </p:spPr>
        </p:cxnSp>
        <p:sp>
          <p:nvSpPr>
            <p:cNvPr id="270" name="Text Box 9"/>
            <p:cNvSpPr/>
            <p:nvPr/>
          </p:nvSpPr>
          <p:spPr>
            <a:xfrm>
              <a:off x="2667240" y="2874960"/>
              <a:ext cx="1168560" cy="4651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he-IL" sz="2400" spc="-1" strike="noStrike">
                  <a:solidFill>
                    <a:srgbClr val="002060"/>
                  </a:solidFill>
                  <a:latin typeface="Arial"/>
                </a:rPr>
                <a:t>תמצית</a:t>
              </a:r>
              <a:r>
                <a:rPr b="0" lang="en-US" sz="24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cxnSp>
          <p:nvCxnSpPr>
            <p:cNvPr id="271" name="AutoShape 10"/>
            <p:cNvCxnSpPr>
              <a:stCxn id="270" idx="2"/>
              <a:endCxn id="272" idx="0"/>
            </p:cNvCxnSpPr>
            <p:nvPr/>
          </p:nvCxnSpPr>
          <p:spPr>
            <a:xfrm>
              <a:off x="3251160" y="3340080"/>
              <a:ext cx="1515240" cy="729360"/>
            </a:xfrm>
            <a:prstGeom prst="straightConnector1">
              <a:avLst/>
            </a:prstGeom>
            <a:ln cap="sq" w="28440">
              <a:solidFill>
                <a:srgbClr val="1f497d"/>
              </a:solidFill>
              <a:miter/>
              <a:tailEnd len="med" type="triangle" w="med"/>
            </a:ln>
          </p:spPr>
        </p:cxnSp>
        <p:sp>
          <p:nvSpPr>
            <p:cNvPr id="272" name="Rectangle 11"/>
            <p:cNvSpPr/>
            <p:nvPr/>
          </p:nvSpPr>
          <p:spPr>
            <a:xfrm>
              <a:off x="1454040" y="4068720"/>
              <a:ext cx="6624000" cy="86184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he-IL" sz="2400" spc="-1" strike="noStrike">
                  <a:solidFill>
                    <a:srgbClr val="002060"/>
                  </a:solidFill>
                  <a:latin typeface="Arial"/>
                </a:rPr>
                <a:t>התאמה בין הרמזים לבין הפריטים והסמלים המוסכמים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3" name="Rectangle 5"/>
          <p:cNvSpPr/>
          <p:nvPr/>
        </p:nvSpPr>
        <p:spPr>
          <a:xfrm>
            <a:off x="2565360" y="5900760"/>
            <a:ext cx="4822920" cy="4539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יצירת תרשי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36777F-3064-4CDB-9138-05F10763CA2D}" type="slidenum">
              <a:rPr b="0" lang="he-IL" sz="1200" spc="-1" strike="noStrike">
                <a:solidFill>
                  <a:srgbClr val="1f254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2489040" y="4871880"/>
            <a:ext cx="4113360" cy="1127160"/>
          </a:xfrm>
          <a:prstGeom prst="flowChartAlternateProcess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940040" y="1814400"/>
            <a:ext cx="4661640" cy="2398320"/>
            <a:chOff x="1940040" y="1814400"/>
            <a:chExt cx="4661640" cy="2398320"/>
          </a:xfrm>
        </p:grpSpPr>
        <p:sp>
          <p:nvSpPr>
            <p:cNvPr id="277" name="Text Box 5"/>
            <p:cNvSpPr/>
            <p:nvPr/>
          </p:nvSpPr>
          <p:spPr>
            <a:xfrm flipH="1">
              <a:off x="1940040" y="3297960"/>
              <a:ext cx="284616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he-IL" sz="2400" spc="-1" strike="noStrike">
                  <a:solidFill>
                    <a:srgbClr val="002060"/>
                  </a:solidFill>
                  <a:latin typeface="Times New Roman"/>
                </a:rPr>
                <a:t>ידע מדעי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8" name="Text Box 6"/>
            <p:cNvSpPr/>
            <p:nvPr/>
          </p:nvSpPr>
          <p:spPr>
            <a:xfrm flipH="1">
              <a:off x="4795920" y="3297960"/>
              <a:ext cx="18054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he-IL" sz="2400" spc="-1" strike="noStrike">
                  <a:solidFill>
                    <a:srgbClr val="002060"/>
                  </a:solidFill>
                  <a:latin typeface="Times New Roman"/>
                </a:rPr>
                <a:t>מצב נתון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9" name="Text Box 7"/>
            <p:cNvSpPr/>
            <p:nvPr/>
          </p:nvSpPr>
          <p:spPr>
            <a:xfrm flipH="1">
              <a:off x="2963520" y="1814400"/>
              <a:ext cx="31982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he-IL" sz="2400" spc="-1" strike="noStrike">
                  <a:solidFill>
                    <a:srgbClr val="002060"/>
                  </a:solidFill>
                  <a:latin typeface="Times New Roman"/>
                </a:rPr>
                <a:t>מושא ההסבר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0" name="AutoShape 9"/>
          <p:cNvSpPr/>
          <p:nvPr/>
        </p:nvSpPr>
        <p:spPr>
          <a:xfrm>
            <a:off x="4722840" y="3235320"/>
            <a:ext cx="2055960" cy="725400"/>
          </a:xfrm>
          <a:prstGeom prst="flowChartAlternateProcess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AutoShape 10"/>
          <p:cNvSpPr/>
          <p:nvPr/>
        </p:nvSpPr>
        <p:spPr>
          <a:xfrm>
            <a:off x="2343240" y="3206880"/>
            <a:ext cx="2143080" cy="876240"/>
          </a:xfrm>
          <a:prstGeom prst="flowChartAlternateProcess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Text Box 11"/>
          <p:cNvSpPr/>
          <p:nvPr/>
        </p:nvSpPr>
        <p:spPr>
          <a:xfrm flipH="1">
            <a:off x="2036880" y="4780080"/>
            <a:ext cx="50133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Times New Roman"/>
              </a:rPr>
              <a:t>ניסוח תחבירי נכון של ההסבר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83" name="AutoShape 12"/>
          <p:cNvCxnSpPr/>
          <p:nvPr/>
        </p:nvCxnSpPr>
        <p:spPr>
          <a:xfrm flipH="1">
            <a:off x="4465440" y="3963960"/>
            <a:ext cx="1961280" cy="822960"/>
          </a:xfrm>
          <a:prstGeom prst="straightConnector1">
            <a:avLst/>
          </a:prstGeom>
          <a:ln cap="sq" w="2844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84" name="AutoShape 13"/>
          <p:cNvCxnSpPr/>
          <p:nvPr/>
        </p:nvCxnSpPr>
        <p:spPr>
          <a:xfrm>
            <a:off x="2782440" y="4084200"/>
            <a:ext cx="1669320" cy="702360"/>
          </a:xfrm>
          <a:prstGeom prst="straightConnector1">
            <a:avLst/>
          </a:prstGeom>
          <a:ln cap="sq" w="2844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285" name="AutoShape 14"/>
          <p:cNvSpPr/>
          <p:nvPr/>
        </p:nvSpPr>
        <p:spPr>
          <a:xfrm>
            <a:off x="3220920" y="1874880"/>
            <a:ext cx="2751120" cy="704880"/>
          </a:xfrm>
          <a:prstGeom prst="flowChartAlternateProcess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AutoShape 17"/>
          <p:cNvSpPr/>
          <p:nvPr/>
        </p:nvSpPr>
        <p:spPr>
          <a:xfrm>
            <a:off x="900000" y="5373720"/>
            <a:ext cx="719280" cy="647640"/>
          </a:xfrm>
          <a:custGeom>
            <a:avLst/>
            <a:gdLst>
              <a:gd name="textAreaLeft" fmla="*/ 118800 w 719280"/>
              <a:gd name="textAreaRight" fmla="*/ 519120 w 71928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153" hR="21600" stAng="10800000" swAng="-5400000"/>
                <a:lnTo>
                  <a:pt x="12016" y="21600"/>
                </a:lnTo>
                <a:arcTo wR="7153" hR="21600" stAng="5400000" swAng="-3123300"/>
                <a:lnTo>
                  <a:pt x="21373" y="5400"/>
                </a:lnTo>
                <a:lnTo>
                  <a:pt x="16737" y="0"/>
                </a:lnTo>
                <a:lnTo>
                  <a:pt x="11646" y="5400"/>
                </a:lnTo>
                <a:lnTo>
                  <a:pt x="14078" y="5400"/>
                </a:lnTo>
                <a:arcTo wR="7153" hR="21600" stAng="2276700" swAng="2713756"/>
                <a:lnTo>
                  <a:pt x="9584" y="20314"/>
                </a:lnTo>
                <a:arcTo wR="7153" hR="21600" stAng="5809544" swAng="4990456"/>
                <a:close/>
              </a:path>
              <a:path fill="darkenLess" w="21600" h="21600">
                <a:moveTo>
                  <a:pt x="0" y="0"/>
                </a:moveTo>
                <a:arcTo wR="7153" hR="21600" stAng="10800000" swAng="-5400000"/>
                <a:lnTo>
                  <a:pt x="12016" y="21600"/>
                </a:lnTo>
                <a:arcTo wR="7153" hR="21600" stAng="5400000" swAng="409544"/>
                <a:lnTo>
                  <a:pt x="9584" y="20314"/>
                </a:lnTo>
                <a:arcTo wR="7153" hR="21600" stAng="5809544" swAng="4990456"/>
                <a:close/>
              </a:path>
            </a:pathLst>
          </a:custGeom>
          <a:solidFill>
            <a:srgbClr val="002060"/>
          </a:solidFill>
          <a:ln cap="sq" w="2556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719280" y="838080"/>
            <a:ext cx="77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e-IL" sz="3600" spc="-1" strike="noStrike">
                <a:solidFill>
                  <a:srgbClr val="002060"/>
                </a:solidFill>
                <a:latin typeface="Calibri"/>
              </a:rPr>
              <a:t>הסבר מדעי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900000" y="5373720"/>
            <a:ext cx="719280" cy="647640"/>
          </a:xfrm>
          <a:custGeom>
            <a:avLst/>
            <a:gdLst>
              <a:gd name="textAreaLeft" fmla="*/ 118800 w 719280"/>
              <a:gd name="textAreaRight" fmla="*/ 519120 w 71928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153" hR="21600" stAng="10800000" swAng="-5400000"/>
                <a:lnTo>
                  <a:pt x="12016" y="21600"/>
                </a:lnTo>
                <a:arcTo wR="7153" hR="21600" stAng="5400000" swAng="-3123300"/>
                <a:lnTo>
                  <a:pt x="21373" y="5400"/>
                </a:lnTo>
                <a:lnTo>
                  <a:pt x="16737" y="0"/>
                </a:lnTo>
                <a:lnTo>
                  <a:pt x="11646" y="5400"/>
                </a:lnTo>
                <a:lnTo>
                  <a:pt x="14078" y="5400"/>
                </a:lnTo>
                <a:arcTo wR="7153" hR="21600" stAng="2276700" swAng="2713756"/>
                <a:lnTo>
                  <a:pt x="9584" y="20314"/>
                </a:lnTo>
                <a:arcTo wR="7153" hR="21600" stAng="5809544" swAng="4990456"/>
                <a:close/>
              </a:path>
              <a:path fill="darkenLess" w="21600" h="21600">
                <a:moveTo>
                  <a:pt x="0" y="0"/>
                </a:moveTo>
                <a:arcTo wR="7153" hR="21600" stAng="10800000" swAng="-5400000"/>
                <a:lnTo>
                  <a:pt x="12016" y="21600"/>
                </a:lnTo>
                <a:arcTo wR="7153" hR="21600" stAng="5400000" swAng="409544"/>
                <a:lnTo>
                  <a:pt x="9584" y="20314"/>
                </a:lnTo>
                <a:arcTo wR="7153" hR="21600" stAng="5809544" swAng="4990456"/>
                <a:close/>
              </a:path>
            </a:pathLst>
          </a:custGeom>
          <a:solidFill>
            <a:srgbClr val="002060"/>
          </a:solidFill>
          <a:ln cap="sq" w="2556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530280" y="9349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e-IL" sz="3600" spc="-1" strike="noStrike">
                <a:solidFill>
                  <a:srgbClr val="002060"/>
                </a:solidFill>
                <a:latin typeface="Calibri"/>
              </a:rPr>
              <a:t>ניסוח שאלת חקר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213372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160800" y="1968480"/>
            <a:ext cx="2374920" cy="503280"/>
          </a:xfrm>
          <a:prstGeom prst="roundRect">
            <a:avLst>
              <a:gd name="adj" fmla="val 16667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מושא החקר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2" name="Group 1"/>
          <p:cNvGrpSpPr/>
          <p:nvPr/>
        </p:nvGrpSpPr>
        <p:grpSpPr>
          <a:xfrm>
            <a:off x="725400" y="3559320"/>
            <a:ext cx="7199280" cy="574560"/>
            <a:chOff x="725400" y="3559320"/>
            <a:chExt cx="7199280" cy="574560"/>
          </a:xfrm>
        </p:grpSpPr>
        <p:sp>
          <p:nvSpPr>
            <p:cNvPr id="293" name="Text Box 10"/>
            <p:cNvSpPr/>
            <p:nvPr/>
          </p:nvSpPr>
          <p:spPr>
            <a:xfrm>
              <a:off x="5478480" y="3559320"/>
              <a:ext cx="2446200" cy="5209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he-IL" sz="2400" spc="-1" strike="noStrike">
                  <a:solidFill>
                    <a:srgbClr val="002060"/>
                  </a:solidFill>
                  <a:latin typeface="Arial"/>
                </a:rPr>
                <a:t>משתנה בלתי תלוי</a:t>
              </a:r>
              <a:r>
                <a:rPr b="0" lang="en-US" sz="24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3030480" y="3559320"/>
              <a:ext cx="2157480" cy="5745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he-IL" sz="2400" spc="-1" strike="noStrike">
                  <a:solidFill>
                    <a:srgbClr val="002060"/>
                  </a:solidFill>
                  <a:latin typeface="Arial"/>
                </a:rPr>
                <a:t>גורם/ים קבוע/ים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5" name="Text Box 12"/>
            <p:cNvSpPr/>
            <p:nvPr/>
          </p:nvSpPr>
          <p:spPr>
            <a:xfrm>
              <a:off x="725400" y="3559320"/>
              <a:ext cx="1998720" cy="5032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he-IL" sz="2400" spc="-1" strike="noStrike">
                  <a:solidFill>
                    <a:srgbClr val="002060"/>
                  </a:solidFill>
                  <a:latin typeface="Arial"/>
                </a:rPr>
                <a:t>משתנה תלוי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96" name="AutoShape 13"/>
          <p:cNvCxnSpPr/>
          <p:nvPr/>
        </p:nvCxnSpPr>
        <p:spPr>
          <a:xfrm flipH="1">
            <a:off x="5187600" y="4161960"/>
            <a:ext cx="1650240" cy="1397880"/>
          </a:xfrm>
          <a:prstGeom prst="straightConnector1">
            <a:avLst/>
          </a:prstGeom>
          <a:ln cap="sq" w="381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97" name="AutoShape 14"/>
          <p:cNvCxnSpPr/>
          <p:nvPr/>
        </p:nvCxnSpPr>
        <p:spPr>
          <a:xfrm>
            <a:off x="1828440" y="4160520"/>
            <a:ext cx="2135880" cy="1432440"/>
          </a:xfrm>
          <a:prstGeom prst="straightConnector1">
            <a:avLst/>
          </a:prstGeom>
          <a:ln cap="sq" w="381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98" name="AutoShape 15"/>
          <p:cNvCxnSpPr/>
          <p:nvPr/>
        </p:nvCxnSpPr>
        <p:spPr>
          <a:xfrm flipH="1">
            <a:off x="4342680" y="4232160"/>
            <a:ext cx="5400" cy="1323360"/>
          </a:xfrm>
          <a:prstGeom prst="straightConnector1">
            <a:avLst/>
          </a:prstGeom>
          <a:ln cap="sq" w="3816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299" name="AutoShape 16"/>
          <p:cNvSpPr/>
          <p:nvPr/>
        </p:nvSpPr>
        <p:spPr>
          <a:xfrm>
            <a:off x="3124080" y="5603760"/>
            <a:ext cx="2533680" cy="93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ניסוח תחבירי נכון של שאלת החקר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2"/>
          <p:cNvSpPr/>
          <p:nvPr/>
        </p:nvSpPr>
        <p:spPr>
          <a:xfrm>
            <a:off x="900000" y="5373720"/>
            <a:ext cx="719280" cy="647640"/>
          </a:xfrm>
          <a:custGeom>
            <a:avLst/>
            <a:gdLst>
              <a:gd name="textAreaLeft" fmla="*/ 118800 w 719280"/>
              <a:gd name="textAreaRight" fmla="*/ 519120 w 71928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153" hR="21600" stAng="10800000" swAng="-5400000"/>
                <a:lnTo>
                  <a:pt x="12016" y="21600"/>
                </a:lnTo>
                <a:arcTo wR="7153" hR="21600" stAng="5400000" swAng="-3123300"/>
                <a:lnTo>
                  <a:pt x="21373" y="5400"/>
                </a:lnTo>
                <a:lnTo>
                  <a:pt x="16737" y="0"/>
                </a:lnTo>
                <a:lnTo>
                  <a:pt x="11646" y="5400"/>
                </a:lnTo>
                <a:lnTo>
                  <a:pt x="14078" y="5400"/>
                </a:lnTo>
                <a:arcTo wR="7153" hR="21600" stAng="2276700" swAng="2713756"/>
                <a:lnTo>
                  <a:pt x="9584" y="20314"/>
                </a:lnTo>
                <a:arcTo wR="7153" hR="21600" stAng="5809544" swAng="4990456"/>
                <a:close/>
              </a:path>
              <a:path fill="darkenLess" w="21600" h="21600">
                <a:moveTo>
                  <a:pt x="0" y="0"/>
                </a:moveTo>
                <a:arcTo wR="7153" hR="21600" stAng="10800000" swAng="-5400000"/>
                <a:lnTo>
                  <a:pt x="12016" y="21600"/>
                </a:lnTo>
                <a:arcTo wR="7153" hR="21600" stAng="5400000" swAng="409544"/>
                <a:lnTo>
                  <a:pt x="9584" y="20314"/>
                </a:lnTo>
                <a:arcTo wR="7153" hR="21600" stAng="5809544" swAng="4990456"/>
                <a:close/>
              </a:path>
            </a:pathLst>
          </a:custGeom>
          <a:solidFill>
            <a:srgbClr val="002060"/>
          </a:solidFill>
          <a:ln cap="sq" w="2556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1960" y="839880"/>
            <a:ext cx="80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e-IL" sz="3600" spc="-1" strike="noStrike">
                <a:solidFill>
                  <a:srgbClr val="002060"/>
                </a:solidFill>
                <a:latin typeface="Calibri"/>
              </a:rPr>
              <a:t>מייצוג מידע בתרשים לייצוג מילולי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0" y="268452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2664000" y="1973160"/>
            <a:ext cx="3957480" cy="4651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התרשים שיש להמיר לתמליל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04" name="Group 1"/>
          <p:cNvGrpSpPr/>
          <p:nvPr/>
        </p:nvGrpSpPr>
        <p:grpSpPr>
          <a:xfrm>
            <a:off x="2286000" y="3340080"/>
            <a:ext cx="4606920" cy="503280"/>
            <a:chOff x="2286000" y="3340080"/>
            <a:chExt cx="4606920" cy="503280"/>
          </a:xfrm>
        </p:grpSpPr>
        <p:sp>
          <p:nvSpPr>
            <p:cNvPr id="305" name="Text Box 9"/>
            <p:cNvSpPr/>
            <p:nvPr/>
          </p:nvSpPr>
          <p:spPr>
            <a:xfrm>
              <a:off x="4591080" y="3352680"/>
              <a:ext cx="2301840" cy="4906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he-IL" sz="2400" spc="-1" strike="noStrike">
                  <a:solidFill>
                    <a:srgbClr val="002060"/>
                  </a:solidFill>
                  <a:latin typeface="Arial"/>
                </a:rPr>
                <a:t>סמלים מוסכמים</a:t>
              </a:r>
              <a:r>
                <a:rPr b="0" lang="en-US" sz="24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Text Box 10"/>
            <p:cNvSpPr/>
            <p:nvPr/>
          </p:nvSpPr>
          <p:spPr>
            <a:xfrm>
              <a:off x="2286000" y="3340080"/>
              <a:ext cx="1436760" cy="4906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he-IL" sz="2400" spc="-1" strike="noStrike">
                  <a:solidFill>
                    <a:srgbClr val="002060"/>
                  </a:solidFill>
                  <a:latin typeface="Arial"/>
                </a:rPr>
                <a:t>פריטים</a:t>
              </a:r>
              <a:r>
                <a:rPr b="0" lang="en-US" sz="24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7" name="AutoShape 11"/>
          <p:cNvCxnSpPr>
            <a:stCxn id="306" idx="2"/>
          </p:cNvCxnSpPr>
          <p:nvPr/>
        </p:nvCxnSpPr>
        <p:spPr>
          <a:xfrm>
            <a:off x="3004920" y="3830400"/>
            <a:ext cx="957960" cy="1383480"/>
          </a:xfrm>
          <a:prstGeom prst="straightConnector1">
            <a:avLst/>
          </a:prstGeom>
          <a:ln cap="sq" w="381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08" name="AutoShape 12"/>
          <p:cNvCxnSpPr/>
          <p:nvPr/>
        </p:nvCxnSpPr>
        <p:spPr>
          <a:xfrm flipH="1">
            <a:off x="5409720" y="3898800"/>
            <a:ext cx="751680" cy="1315440"/>
          </a:xfrm>
          <a:prstGeom prst="straightConnector1">
            <a:avLst/>
          </a:prstGeom>
          <a:ln cap="sq" w="3816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309" name="AutoShape 13"/>
          <p:cNvSpPr/>
          <p:nvPr/>
        </p:nvSpPr>
        <p:spPr>
          <a:xfrm>
            <a:off x="1835280" y="5213520"/>
            <a:ext cx="5614920" cy="483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ניסוח "סיפור" של התרשי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09:45:26Z</dcterms:created>
  <dc:creator>osnat_o</dc:creator>
  <dc:description/>
  <dc:language>en-US</dc:language>
  <cp:lastModifiedBy>Irina Veisman</cp:lastModifiedBy>
  <dcterms:modified xsi:type="dcterms:W3CDTF">2014-04-05T19:26:28Z</dcterms:modified>
  <cp:revision>25</cp:revision>
  <dc:subject/>
  <dc:title>אוריינות בשיעורי הפיזיקה</dc:title>
</cp:coreProperties>
</file>